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95B3-F50B-4CFD-87F1-517221B4A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FCF-F7DB-4DF4-B291-A8EA897E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86C-84A5-4F41-987D-2D88137C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F86-05DA-41E0-8206-9A9E1F91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EDF-21A7-46ED-A051-5DF008EC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DE2-7E33-44A5-82E7-64C12EC2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F95-EB14-4FFB-A4FF-652E7D6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5C2-CA59-400F-B041-91DCB49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3FB-4A61-4E69-9A0D-D1F0CDE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2C4-17C5-4EAA-A3B9-C7511956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140-09EB-46FB-ABC0-8FA89A1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FA3-EE06-46EF-ACC3-0F7C740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0BC-28F8-420E-94AE-9459F7A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1E77-2AE2-4B0B-82DC-8034E2262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lanning ahea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ications pull from pioneer users in Cor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ial Bank</a:t>
            </a:r>
            <a:r>
              <a:rPr b="0" lang="en-US" sz="2000" spc="-1" strike="noStrike">
                <a:solidFill>
                  <a:srgbClr val="336699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udy these groups currently annotat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aluate the commonalities and differences among approach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 plug-in architec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user interface for generic data-annotation task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stom-tailored interfaces for particular biomedical 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able interoperability with existing ontology-management platfo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 ontology-annotation tool with 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cess ontologies for data annotation from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 data annotations in OB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reating </a:t>
            </a:r>
            <a:r>
              <a:rPr b="1" lang="en-US" sz="4400" spc="-1" strike="noStrike">
                <a:solidFill>
                  <a:srgbClr val="e3ebf1"/>
                </a:solidFill>
                <a:latin typeface="Gill Sans"/>
              </a:rPr>
              <a:t>associations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487440" y="2209680"/>
            <a:ext cx="254628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62" idx="2"/>
          </p:cNvCxnSpPr>
          <p:nvPr/>
        </p:nvCxnSpPr>
        <p:spPr>
          <a:xfrm flipV="1" rot="16200000">
            <a:off x="3114000" y="4485600"/>
            <a:ext cx="2912040" cy="3960"/>
          </a:xfrm>
          <a:prstGeom prst="bentConnector3">
            <a:avLst>
              <a:gd name="adj1" fmla="val 50000"/>
            </a:avLst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0" name=""/>
          <p:cNvCxnSpPr>
            <a:stCxn id="68" idx="0"/>
            <a:endCxn id="60" idx="3"/>
          </p:cNvCxnSpPr>
          <p:nvPr/>
        </p:nvCxnSpPr>
        <p:spPr>
          <a:xfrm flipV="1" rot="16200000">
            <a:off x="2380680" y="3752280"/>
            <a:ext cx="2705760" cy="16772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1" name=""/>
          <p:cNvCxnSpPr>
            <a:stCxn id="68" idx="0"/>
            <a:endCxn id="61" idx="3"/>
          </p:cNvCxnSpPr>
          <p:nvPr/>
        </p:nvCxnSpPr>
        <p:spPr>
          <a:xfrm flipV="1" rot="16200000">
            <a:off x="3066840" y="4438080"/>
            <a:ext cx="1296000" cy="17150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2" name=""/>
          <p:cNvCxnSpPr>
            <a:stCxn id="68" idx="0"/>
            <a:endCxn id="63" idx="1"/>
          </p:cNvCxnSpPr>
          <p:nvPr/>
        </p:nvCxnSpPr>
        <p:spPr>
          <a:xfrm flipH="1" flipV="1" rot="5400000">
            <a:off x="4171680" y="3638160"/>
            <a:ext cx="2705760" cy="19058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3" name=""/>
          <p:cNvCxnSpPr>
            <a:stCxn id="68" idx="0"/>
            <a:endCxn id="66" idx="1"/>
          </p:cNvCxnSpPr>
          <p:nvPr/>
        </p:nvCxnSpPr>
        <p:spPr>
          <a:xfrm flipH="1" flipV="1" rot="5400000">
            <a:off x="4933440" y="4285800"/>
            <a:ext cx="1296000" cy="201996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sp>
        <p:nvSpPr>
          <p:cNvPr id="74" name=""/>
          <p:cNvSpPr/>
          <p:nvPr/>
        </p:nvSpPr>
        <p:spPr>
          <a:xfrm>
            <a:off x="304920" y="1905120"/>
            <a:ext cx="8458200" cy="3809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5280" y="2666880"/>
            <a:ext cx="8714880" cy="187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finition of an associ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6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Our Annotation Tas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Annotation: describing an instance with a set of associated ontological ter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Genotype, environmental, assay, evidence, and </a:t>
            </a:r>
            <a:r>
              <a:rPr b="1" lang="en-GB" sz="2800" spc="-1" strike="noStrike">
                <a:solidFill>
                  <a:srgbClr val="ff8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For an association we need to capture the following data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name or tag for the inst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The evidence for the observ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"/>
              </a:rPr>
              <a:t>For example, the URL of an im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list of associated terms comprising the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Suzanna Lewis</cp:lastModifiedBy>
  <dcterms:modified xsi:type="dcterms:W3CDTF">2006-03-03T19:18:35Z</dcterms:modified>
  <cp:revision>457</cp:revision>
  <dc:subject/>
  <dc:title>NCBIO-Berkeley</dc:title>
</cp:coreProperties>
</file>